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0FD-EA60-4AD7-A786-15ECC181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720-E807-4A8A-949A-C02DA77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813-0A54-46E6-B5C8-61DBCDD1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FFF-422E-419A-A93B-D0012DB3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462-0780-4535-A204-AA4DE50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C6E-9CF2-4024-8614-C594D6D6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C61-223E-4B2E-B647-F26BDBE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EF5-9B45-4769-BE16-0B1CEF30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262-D51E-4BC4-8A65-568A996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130-CBBC-4D0E-978A-54E5122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00D-6263-4D37-8375-5E181A1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EBC-DD35-4284-9399-DBEBAF3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92B9-64BB-45F7-99DD-C284152B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hyperlink" Target="http://www.school-wires.wikispaces.com/" TargetMode="External"/><Relationship Id="rId3" Type="http://schemas.openxmlformats.org/officeDocument/2006/relationships/hyperlink" Target="http://www.school-wires.wikispaces.com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to School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r email log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Your email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the school’s web p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“Sign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23888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2920" y="3048120"/>
            <a:ext cx="8380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209680"/>
            <a:ext cx="914400" cy="838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your email log-in name and password.  Then click “Sign I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84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5480" y="4648320"/>
            <a:ext cx="259092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962520"/>
            <a:ext cx="1905120" cy="99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the “Teachers” menu choose your na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3809880"/>
            <a:ext cx="609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57400" y="2514600"/>
            <a:ext cx="53352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00600" cy="461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6781680" y="2666880"/>
            <a:ext cx="144792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click “Site Manag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6768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772400" y="2743200"/>
            <a:ext cx="12193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1143000"/>
            <a:ext cx="0" cy="1523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Site Manager” page will open in a new window.</a:t>
            </a:r>
            <a:br>
              <a:rPr sz="4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here to return to th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wik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13:15Z</dcterms:created>
  <dc:creator>%$#@1</dc:creator>
  <dc:description/>
  <dc:language>en-US</dc:language>
  <cp:lastModifiedBy>%$#@1</cp:lastModifiedBy>
  <dcterms:modified xsi:type="dcterms:W3CDTF">2010-04-27T00:28:53Z</dcterms:modified>
  <cp:revision>4</cp:revision>
  <dc:subject/>
  <dc:title>Logging Into School Wires</dc:title>
</cp:coreProperties>
</file>